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C21B-272A-46BE-852B-6013D42A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64C-95A1-4CA3-8CFF-5BD6046B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D0372-34DB-42B0-A7F0-35849E8A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156D5-6168-4EFD-BB06-827604FF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B713B-5639-4636-B671-FA4E21D1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DBF9B-2668-4408-B8D1-837C9E33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2A1E1-49CD-404D-B954-FE9E84E8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3E632-493B-4BD8-B153-EC92C1B6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304AD-B8F7-4C5D-937C-6518F484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F3E92-A736-4558-8712-21980C95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0834E-9DF2-494F-952A-8CE96D61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4AA26-EEA4-4FD6-9449-B27EFAC5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BB8-9C58-4EB7-8A1B-471F66F4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0EF34-6499-4072-99EF-144FA6F2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CB357-067A-40CD-8E6F-D347AD27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C4DE8-9A54-4121-93FB-76399A6D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8EBF5-14B8-4D70-B056-5ABCBCB3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9FDC8-5DB9-4115-BC3F-F245554E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3C1EB-929E-4DC3-B04F-0C0394CC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53053-840D-4C87-AA67-AFD92770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19E53-40E7-4713-84BA-5AA023B2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4D7DF-D20B-4C6E-B7CC-4BF294B9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EE8BE-97B3-4B90-8AE3-95911624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196-88B3-4AA1-AC4D-14E2665C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78031-9CB5-45A6-B35C-930FC0CB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B21A-988E-4456-AC17-8E7356BB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D37E-3896-4959-90A3-B600479D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8C3F-3D18-4DEF-94DB-2F690A51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4FEA-7E93-42ED-BC28-6BDCA478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E39D-90CA-4BE2-8B7A-ACF7FDB4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DF71-DEED-477E-A885-75FC9F40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6754-A774-4A81-91AA-C0816F53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677-170B-4B2C-88B4-C424B905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C8B5-54B1-45B1-BC1E-9C2553C6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1DFD-688D-4A1F-9B94-FFCC4000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3110-5EB9-4142-A523-C56E0B1E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ECB1-3784-48A7-8BF2-9C2AF82F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49F7-3904-49AC-9AFE-5791FA02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288E1-3F88-4310-B91F-ED13BA3C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90CCD-38AE-4791-BEC9-8DA42FB7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7A6D-7C32-4164-B48B-95349592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920C5-44A9-412B-BA62-9B218C60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083A8-E94C-4F9C-A41B-2FE663CA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102-E2CB-479A-AA16-A76EE3F5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50CD8-3E4E-4CD3-8F2B-8318E9B7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69CFB-5B72-43C9-92E4-332EB5D3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72BA5-99FC-4978-8452-E7BB3411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375F-B029-4AE3-A88C-681A5B5F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D2D7C-D6EC-4CC7-BDD6-44D7FDFA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09075-4F67-4D57-92F6-1F676454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2D97-7DBD-469F-ACEB-15E1CB8D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8B769-0E6B-438C-A7BA-EB584BC6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5FCF9-A2BA-41CC-91C5-06840C22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D09FD-F1BB-4D55-886B-DF81971F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DF6-0376-42C0-A318-074D39F6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7DC82-7712-464D-8EF7-2781934B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D9B49-97F7-4B94-8EE5-D49A125F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42E01-B74F-45E4-9007-3E85C6E7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6AA32-7EAA-421D-8608-73BC140B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09FC6-32F3-403F-8514-BFB93882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6896C-F06F-4044-BB54-04D34707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3C600-1A39-46AD-96D7-171F82C6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B70A1-771C-479A-A928-E0B9D042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F48B0-CF91-4C55-BF2E-C06341B4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FC0C0-7EDF-49EE-8DCA-9CF93A80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D38-4BCC-4298-91AE-E7269BC6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EBB3C-EAF1-431B-A932-6EC4CC77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FFB5F-A789-4F97-AA7E-972F7467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E4432-A01C-47F6-854B-CB52725E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CACAD-DBA2-4CA8-91F1-29804033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B6BD3-1DCD-4054-9D0A-F47AD61E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61F2E-115C-4E83-9859-511A393B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8F333-0BD2-466D-8287-C3012BAD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6819F-289F-48FC-852B-47CDE456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E8A1D-B777-471B-A298-BA0194C1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5640A-2005-4171-8590-65A6060D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10A-736A-473A-BEA9-68CA373C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BA90F-EF58-4568-9C95-7C7C7662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A1F23-BEB0-488F-A911-D0550977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91904-A9FE-4E92-BE39-C9A342EA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568C4-EFEA-4522-9A36-FC55EBB0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BD323-41D2-4708-A89C-F5181CF3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E0B75-AC7F-4605-82CA-F760F3EC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7699E-C7A3-4F75-893D-01733B8F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40B11-0EF5-44B0-AA9E-798BD1F0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FD5A9-25D9-4395-AE4A-866D4F19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16922-729A-485B-9443-529CCDB5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71B-C26F-4CAC-8671-629EB549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1D844-45F9-465D-B98C-9A5B91DC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549F1-B667-427E-BB1C-F36FD3B1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C39C1-5E7C-4EE1-85BF-4A15BE9C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26953-B260-4C4A-8BB9-CD72DD32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F68EB-B2D6-4FAE-B4AA-CE5AD77B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F1602-1FC9-4ECF-AA88-4D2A8659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01872-6069-4915-86C5-FCE8D262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508ED-1363-4612-84B1-0600ED08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E239C-174E-4C05-9032-544FE815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242BC-1D74-45A0-872D-EC78630A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476-601C-425D-A655-060E255E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4A532-FC09-483B-BABF-BF923934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CC596-30B2-4553-9479-C975720A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7BD61-9CE6-41A8-9359-E9562BF6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507F9-7ED1-40D3-8FE7-F96FBD21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3E760-B23E-49DE-ADF7-97B44612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23076-9AE7-44A9-BEE6-6EC59D79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1D188-7DA3-4AAE-9B0F-597D86C5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5DA42-CC7B-4ABC-B172-C10FCEAA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77741-E9A5-4A68-BAD0-D4E54E21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73C3A-4758-4FB5-BC4B-C0C6ABE8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3BB-3091-43FD-AE71-82D91E86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8671C-BD6E-41A4-A074-6DB10DA0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662B0-8BB0-41EB-ABE9-20F9D554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E828F-27F0-4919-8AE4-1F597C74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B4C64-7ABC-47F8-B988-0DA6A6A7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75C84-4E5B-4384-A5D8-B1B50673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920F7-FFDD-4094-8673-96F22144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EA8B8-58EC-46FF-8003-F7261C90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B4577-1C58-41FC-8AD0-6C973082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6A301-942A-4B02-801A-0D20D591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B632B-9E02-43FC-9BAB-31D2EC02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861D-EECF-4182-8995-B7EE6D95D91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CA84-9ECF-4A10-BECA-F1DC5C78E5A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A9A7-0619-4EE5-B867-2A0A364A7BB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E726-6950-4DFD-B92B-6E0134CF2ED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2EBB-903F-4C10-8269-F685D2238EF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F703-DE56-4277-8DEC-C280673726E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7139-EA72-430C-8C64-8CC4D451C4A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D9C1-DD8C-4268-9A87-6C39CF30085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2771-3231-447F-A01F-651CFB2C728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DFFE-A6CA-4654-8BDA-68474B05EAA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2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르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도 잘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부모님께서도 안녕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hese days, nowadays, recent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지내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o get along (do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부모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떻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how; interrogative adve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떻게 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을 어떻게 만들었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어떻게 생겼습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	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께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; honorific expression of 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선생님께서 이야기하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할아버지께서 오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아버지께서 신문을 읽으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lso, too; a subject/object post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저도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좋습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도 압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음식도 맛있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Particle? Or Post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맑은 고딕"/>
              </a:rPr>
              <a:t>Make nouns/prenouns into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ject/object/possesive for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quivalent array ( ~ and ~, ~ or ~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djective or adverbe phra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맑은 고딕"/>
              </a:rPr>
              <a:t>Postpositions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씨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r. (Ms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ofess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르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e, exist, pres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usba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친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rie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augh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esi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rector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어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if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l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youn ger br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,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장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일러 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부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 교수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임지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윤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24T14:40:06Z</dcterms:modified>
  <cp:revision>70</cp:revision>
  <dc:subject/>
  <dc:title>KOREAN LANGUAGE</dc:title>
</cp:coreProperties>
</file>